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owerPlugs BGs 2 B01C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Diapositiva1"/>
          <p:cNvPicPr/>
          <p:nvPr/>
        </p:nvPicPr>
        <p:blipFill>
          <a:blip r:embed="rId3"/>
          <a:stretch/>
        </p:blipFill>
        <p:spPr>
          <a:xfrm>
            <a:off x="7885080" y="189000"/>
            <a:ext cx="1082880" cy="787320"/>
          </a:xfrm>
          <a:prstGeom prst="rect">
            <a:avLst/>
          </a:prstGeom>
          <a:ln w="0">
            <a:noFill/>
          </a:ln>
        </p:spPr>
      </p:pic>
      <p:sp>
        <p:nvSpPr>
          <p:cNvPr id="2" name="Text Box 16"/>
          <p:cNvSpPr/>
          <p:nvPr/>
        </p:nvSpPr>
        <p:spPr>
          <a:xfrm>
            <a:off x="3492360" y="40464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Rounded MT Bold"/>
              </a:rPr>
              <a:t>CREATIVIDAD E INNOVACIÓN EN EL USO DE LAS  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1 Imagen" descr="logofatla.jpg"/>
          <p:cNvPicPr/>
          <p:nvPr/>
        </p:nvPicPr>
        <p:blipFill>
          <a:blip r:embed="rId4"/>
          <a:stretch/>
        </p:blipFill>
        <p:spPr>
          <a:xfrm>
            <a:off x="250920" y="189000"/>
            <a:ext cx="2928960" cy="608040"/>
          </a:xfrm>
          <a:prstGeom prst="rect">
            <a:avLst/>
          </a:prstGeom>
          <a:ln w="0">
            <a:noFill/>
          </a:ln>
        </p:spPr>
      </p:pic>
      <p:pic>
        <p:nvPicPr>
          <p:cNvPr id="4" name="2 Imagen" descr="expertoelearning.png"/>
          <p:cNvPicPr/>
          <p:nvPr/>
        </p:nvPicPr>
        <p:blipFill>
          <a:blip r:embed="rId5"/>
          <a:stretch/>
        </p:blipFill>
        <p:spPr>
          <a:xfrm>
            <a:off x="802800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9"/>
          <p:cNvSpPr/>
          <p:nvPr/>
        </p:nvSpPr>
        <p:spPr>
          <a:xfrm>
            <a:off x="971640" y="616572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Monotype Corsiva"/>
              </a:rPr>
              <a:t>Dando vidas a cosas nuevas con capacidad de Innovación y Crea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Subtítulo"/>
          <p:cNvSpPr/>
          <p:nvPr/>
        </p:nvSpPr>
        <p:spPr>
          <a:xfrm>
            <a:off x="1071720" y="1357200"/>
            <a:ext cx="72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FATLA </a:t>
            </a:r>
            <a:br>
              <a:rPr sz="1800"/>
            </a:b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Fundación para la Actualización Tecnológica de Latinoamérica</a:t>
            </a:r>
            <a:br>
              <a:rPr sz="1800"/>
            </a:b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Programa de Experto en Procesos Elearning</a:t>
            </a:r>
            <a:br>
              <a:rPr sz="1800"/>
            </a:b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Módulo 5 - Metodología PACIE - 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785880" y="307188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Recursos Web 2.0: Oportunidad de capacitar en el uso de las herramientas tecnológicas a los docentes de la UCLA, para ser implementado en el proceso de aprendiza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500120" y="3929040"/>
            <a:ext cx="66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CITIC: Creatividad e innovación en el uso de las 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724360" y="4653000"/>
            <a:ext cx="28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Coordin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Arial"/>
              </a:rPr>
              <a:t>Nancy Gómez -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4360" y="4437000"/>
            <a:ext cx="3058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María M. Cambil- Venezuela</a:t>
            </a:r>
            <a:br>
              <a:rPr sz="1600"/>
            </a:b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Maribel Viales - Costa Rica</a:t>
            </a:r>
            <a:br>
              <a:rPr sz="1600"/>
            </a:b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Nancy Gómez - Venez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Imagen de Maribel Viales Obregón"/>
          <p:cNvPicPr/>
          <p:nvPr/>
        </p:nvPicPr>
        <p:blipFill>
          <a:blip r:embed="rId1"/>
          <a:stretch/>
        </p:blipFill>
        <p:spPr>
          <a:xfrm>
            <a:off x="3591000" y="48960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Imagen de Nancy M. Gómez de Lugo"/>
          <p:cNvPicPr/>
          <p:nvPr/>
        </p:nvPicPr>
        <p:blipFill>
          <a:blip r:embed="rId2"/>
          <a:stretch/>
        </p:blipFill>
        <p:spPr>
          <a:xfrm>
            <a:off x="3591000" y="5327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Imagen de María Mercedes Cambil Caruci"/>
          <p:cNvPicPr/>
          <p:nvPr/>
        </p:nvPicPr>
        <p:blipFill>
          <a:blip r:embed="rId3"/>
          <a:stretch/>
        </p:blipFill>
        <p:spPr>
          <a:xfrm>
            <a:off x="3591000" y="4535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CuadroTexto"/>
          <p:cNvSpPr/>
          <p:nvPr/>
        </p:nvSpPr>
        <p:spPr>
          <a:xfrm>
            <a:off x="785880" y="150012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o de discus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mática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onde se presentarán lectura sobre relacionadas con el contenido del 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o Talle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te espacio involucra la interacción de los participantes, busca dar respuesta a las dudas e interrogantes que se le presenten a los docentes participantes; se espera motivar las redes de ayuda relacionadas con las diversas actividades que propone el 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so del Google Docs y Wikis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ara el intercambio virtual de materi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o de Socialización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pacio Virtual de recreación en el que los participantes podrán interactuar entre ellos y conocer mejor los gustos y características de sus compañ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85960" y="14281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RGANIZACIÓN DE  LA CAPACITA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2349360"/>
          <a:ext cx="8785440" cy="307980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aula Virtual, ubicación, navegabilidad y Se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alizando Mi Per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endo a Mis compañer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resentación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resentación de la institución e intercambios con compañeros de curs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 de socialización: “Presentación y expectativas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2349360"/>
          <a:ext cx="8785440" cy="247500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ivos digitales Vrs modelos de 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a: Nativos digitales y modelos de aprendiz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s grupales de discusión en relación a la lectur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2565360"/>
          <a:ext cx="8785080" cy="2786040"/>
        </p:xfrm>
        <a:graphic>
          <a:graphicData uri="http://schemas.openxmlformats.org/drawingml/2006/table">
            <a:tbl>
              <a:tblPr/>
              <a:tblGrid>
                <a:gridCol w="1041480"/>
                <a:gridCol w="1636560"/>
                <a:gridCol w="2114640"/>
                <a:gridCol w="2327400"/>
                <a:gridCol w="166500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 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ramientas digitales y su aplicación a la educac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través de un foro general los participantes buscan y comentan diferentes herramientas digitales aplicables a la Educac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general de discusión relacionado con las herramientas encontra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989000"/>
          <a:ext cx="8785440" cy="396396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31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ágina Youtube como biblioteca multimedia de la escu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a del manual de cómo bajar y subir vide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ea: Los participantes diseñan una guía de observación para un video determinado y lo comparten en la Wiki  junto con el link del vide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Taller de dudas General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ki sobre guías de observac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989000"/>
          <a:ext cx="8785440" cy="3772080"/>
        </p:xfrm>
        <a:graphic>
          <a:graphicData uri="http://schemas.openxmlformats.org/drawingml/2006/table">
            <a:tbl>
              <a:tblPr/>
              <a:tblGrid>
                <a:gridCol w="1041480"/>
                <a:gridCol w="1636920"/>
                <a:gridCol w="2114280"/>
                <a:gridCol w="2327400"/>
                <a:gridCol w="16653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29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herramienta de Google Docs para el desarrollo de redes de intercambio virtu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ctura ppt del manual de Google Do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bajo en subgrupos, los cuales realizaran un Planeamiento en línea el cual involucre el uso de herramientas digitales, el cual enviaran a través de Google Docs al profes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Taller de dudas Gener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57120" y="1714680"/>
          <a:ext cx="8356680" cy="4379760"/>
        </p:xfrm>
        <a:graphic>
          <a:graphicData uri="http://schemas.openxmlformats.org/drawingml/2006/table">
            <a:tbl>
              <a:tblPr/>
              <a:tblGrid>
                <a:gridCol w="990720"/>
                <a:gridCol w="1557360"/>
                <a:gridCol w="2011320"/>
                <a:gridCol w="2212920"/>
                <a:gridCol w="158436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rdaje concep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os y discu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ramientas a utiliz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es obligato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365f91"/>
                    </a:solidFill>
                  </a:tcPr>
                </a:tc>
              </a:tr>
              <a:tr h="35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maximizar el uso las herramientas de la Web 2 en los nativos digitales. (la educación frente a estos requerimien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stival de citas bibliográficas.Todos los participantes realizaran una búsqueda bibliográfica relacionada con la Educación vrs nativos digitales. Anotaran citas textuales del documento encontrado con su respectiva bibliografía y darán aportes a las de sus compañer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intercambio de citas textuales y bibliograf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cio de Recreación 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o de socialización opt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627280" y="15422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curs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39640" y="21646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ecurso_humano"/>
          <p:cNvPicPr/>
          <p:nvPr/>
        </p:nvPicPr>
        <p:blipFill>
          <a:blip r:embed="rId1"/>
          <a:stretch/>
        </p:blipFill>
        <p:spPr>
          <a:xfrm>
            <a:off x="901800" y="2610000"/>
            <a:ext cx="1201680" cy="3058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500040" y="4432680"/>
            <a:ext cx="196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Docentes en el área de Informática y entrenados a través de FATL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transfer-foto"/>
          <p:cNvPicPr/>
          <p:nvPr/>
        </p:nvPicPr>
        <p:blipFill>
          <a:blip r:embed="rId2"/>
          <a:stretch/>
        </p:blipFill>
        <p:spPr>
          <a:xfrm>
            <a:off x="3565440" y="2719440"/>
            <a:ext cx="1609920" cy="2584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3274920" y="2197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357720" y="4447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Sistema de Educación a Distancia (SEDUC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Plataforma MOO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372360" y="2204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Inversi%C3%B3n"/>
          <p:cNvPicPr/>
          <p:nvPr/>
        </p:nvPicPr>
        <p:blipFill>
          <a:blip r:embed="rId3"/>
          <a:stretch/>
        </p:blipFill>
        <p:spPr>
          <a:xfrm>
            <a:off x="6576840" y="2724120"/>
            <a:ext cx="1890720" cy="2841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6"/>
          <p:cNvSpPr/>
          <p:nvPr/>
        </p:nvSpPr>
        <p:spPr>
          <a:xfrm>
            <a:off x="6572160" y="4416840"/>
            <a:ext cx="232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Ingresos prop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Arial"/>
              </a:rPr>
              <a:t>Proyectos a través de la Ley orgánica de Ciencias y Tecnología (LOC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642960" y="2714760"/>
            <a:ext cx="7318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Monotype Corsiva"/>
              </a:rPr>
              <a:t>Pocos de nosotros podemos hacer grandes cosas, pero todos podemos hacer cosas pequeñas con gran amor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80000" y="49291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MADRE TERESA DE CALCU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6834240" y="3638520"/>
            <a:ext cx="981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CuadroTexto"/>
          <p:cNvSpPr/>
          <p:nvPr/>
        </p:nvSpPr>
        <p:spPr>
          <a:xfrm>
            <a:off x="179280" y="1268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LA GENERACIÓN DIGITAL UN DESAFÍO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00040" y="2143080"/>
            <a:ext cx="81439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bjetivo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pacitar en herramientas tecnológicas a los docentes de la UCLA, para ser implementado en el proceso de aprendiz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bjetiv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fundir a través de diversos medios, la importancia y relevancia de la capa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vocar a todos los docentes de la UCLA a su participación en el proc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Motivar a los docentes a apropiarse de las herramientas tecnológicas para ser usadas en los entornos de enseña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EscudoUcla"/>
          <p:cNvPicPr/>
          <p:nvPr/>
        </p:nvPicPr>
        <p:blipFill>
          <a:blip r:embed="rId1"/>
          <a:stretch/>
        </p:blipFill>
        <p:spPr>
          <a:xfrm>
            <a:off x="250920" y="1197000"/>
            <a:ext cx="119988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85960" y="1188720"/>
            <a:ext cx="63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idad Centroccidental Lisandro Alvarado (UCLA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71760" y="195912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Ubicada en la Carrera 19 entre calles 8 y 9. Edificio Rectorado de la Ciudad de Barquisimeto, Estado Lara de Venez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rof. Nelly V."/>
          <p:cNvPicPr/>
          <p:nvPr/>
        </p:nvPicPr>
        <p:blipFill>
          <a:blip r:embed="rId2"/>
          <a:stretch/>
        </p:blipFill>
        <p:spPr>
          <a:xfrm>
            <a:off x="5286240" y="4286160"/>
            <a:ext cx="1041480" cy="11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www.ucla.edu.ve/valores/images/ugel.jpg"/>
          <p:cNvPicPr/>
          <p:nvPr/>
        </p:nvPicPr>
        <p:blipFill>
          <a:blip r:embed="rId3"/>
          <a:stretch/>
        </p:blipFill>
        <p:spPr>
          <a:xfrm>
            <a:off x="7358040" y="4286160"/>
            <a:ext cx="1042920" cy="116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www.ucla.edu.ve/valores/images/rector.jpg"/>
          <p:cNvPicPr/>
          <p:nvPr/>
        </p:nvPicPr>
        <p:blipFill>
          <a:blip r:embed="rId4"/>
          <a:stretch/>
        </p:blipFill>
        <p:spPr>
          <a:xfrm>
            <a:off x="1071720" y="4357800"/>
            <a:ext cx="893520" cy="116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www.ucla.edu.ve/valores/images/Edgar.jpg"/>
          <p:cNvPicPr/>
          <p:nvPr/>
        </p:nvPicPr>
        <p:blipFill>
          <a:blip r:embed="rId5"/>
          <a:stretch/>
        </p:blipFill>
        <p:spPr>
          <a:xfrm>
            <a:off x="3000240" y="4357800"/>
            <a:ext cx="957240" cy="1168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497160" y="36432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. Francesco Le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2428920" y="364320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Lic.  Edgar Alvar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Vicerrector Administra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4643280" y="364320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Prof. Nelly Velásqu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Vicerrector Académic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7000920" y="364320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Prof. Francisco U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ahoma"/>
              </a:rPr>
              <a:t>Secretario Gene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1908000" y="2851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Máximas autoridad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DAC"/>
          <p:cNvPicPr/>
          <p:nvPr/>
        </p:nvPicPr>
        <p:blipFill>
          <a:blip r:embed="rId1"/>
          <a:stretch/>
        </p:blipFill>
        <p:spPr>
          <a:xfrm>
            <a:off x="1335240" y="1852560"/>
            <a:ext cx="233496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928880" y="135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BLACIÓN SUJETA A LA CAPACITACITA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000680" y="2143800"/>
            <a:ext cx="4535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Administración y Contadu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Contadurí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28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DAG"/>
          <p:cNvPicPr/>
          <p:nvPr/>
        </p:nvPicPr>
        <p:blipFill>
          <a:blip r:embed="rId2"/>
          <a:stretch/>
        </p:blipFill>
        <p:spPr>
          <a:xfrm>
            <a:off x="1335240" y="3780000"/>
            <a:ext cx="2334960" cy="3900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071960" y="4002120"/>
            <a:ext cx="35942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Agr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Agr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Agro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écnico Superior Agro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208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2" descr="1DCT"/>
          <p:cNvPicPr/>
          <p:nvPr/>
        </p:nvPicPr>
        <p:blipFill>
          <a:blip r:embed="rId1"/>
          <a:stretch/>
        </p:blipFill>
        <p:spPr>
          <a:xfrm>
            <a:off x="1335240" y="1920960"/>
            <a:ext cx="2444760" cy="347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1DCV"/>
          <p:cNvPicPr/>
          <p:nvPr/>
        </p:nvPicPr>
        <p:blipFill>
          <a:blip r:embed="rId2"/>
          <a:stretch/>
        </p:blipFill>
        <p:spPr>
          <a:xfrm>
            <a:off x="1335240" y="4065480"/>
            <a:ext cx="2438280" cy="3451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4"/>
          <p:cNvSpPr/>
          <p:nvPr/>
        </p:nvSpPr>
        <p:spPr>
          <a:xfrm>
            <a:off x="4214880" y="2001960"/>
            <a:ext cx="4197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 Ciencias y Tecnolog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en Infor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Análisis de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Mate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1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4143240" y="4143960"/>
            <a:ext cx="3918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Ciencias Veterin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Medicina Veter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écnico Superior Agropecu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1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DIC"/>
          <p:cNvPicPr/>
          <p:nvPr/>
        </p:nvPicPr>
        <p:blipFill>
          <a:blip r:embed="rId1"/>
          <a:stretch/>
        </p:blipFill>
        <p:spPr>
          <a:xfrm>
            <a:off x="1627200" y="1584360"/>
            <a:ext cx="2158920" cy="3652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2143440"/>
            <a:ext cx="3232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Ingenierí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Ingenierí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125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DME"/>
          <p:cNvPicPr/>
          <p:nvPr/>
        </p:nvPicPr>
        <p:blipFill>
          <a:blip r:embed="rId2"/>
          <a:stretch/>
        </p:blipFill>
        <p:spPr>
          <a:xfrm>
            <a:off x="1700280" y="3736800"/>
            <a:ext cx="2090520" cy="3492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4500720" y="3787560"/>
            <a:ext cx="3816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Decanato de Ciencias de la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Me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Enfer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Técnico Superior en Enfer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534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DHA"/>
          <p:cNvPicPr/>
          <p:nvPr/>
        </p:nvPicPr>
        <p:blipFill>
          <a:blip r:embed="rId1"/>
          <a:stretch/>
        </p:blipFill>
        <p:spPr>
          <a:xfrm>
            <a:off x="1200240" y="1725480"/>
            <a:ext cx="2238120" cy="374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860280" y="2215440"/>
            <a:ext cx="3810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Decanato de Humanidades y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Artes Plá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Desarroll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</a:rPr>
              <a:t>Licenciatura en Psic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ro. de Profesores: 6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xt Box 7" descr=""/>
          <p:cNvPicPr/>
          <p:nvPr/>
        </p:nvPicPr>
        <p:blipFill>
          <a:blip r:embed="rId2"/>
          <a:stretch/>
        </p:blipFill>
        <p:spPr>
          <a:xfrm>
            <a:off x="2084400" y="4230720"/>
            <a:ext cx="5011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12"/>
          <p:cNvSpPr txBox="1"/>
          <p:nvPr/>
        </p:nvSpPr>
        <p:spPr>
          <a:xfrm rot="5400000">
            <a:off x="286200" y="2577240"/>
            <a:ext cx="43164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43f60"/>
                  </a:solidFill>
                  <a:miter/>
                </a:ln>
                <a:solidFill>
                  <a:srgbClr val="8db3e2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P</a:t>
            </a:r>
            <a:endParaRPr b="0" i="1" lang="en-US" sz="1800" spc="1" strike="noStrike">
              <a:ln w="9360">
                <a:solidFill>
                  <a:srgbClr val="243f60"/>
                </a:solidFill>
                <a:miter/>
              </a:ln>
              <a:solidFill>
                <a:srgbClr val="8db3e2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11280" y="263196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sencia: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creando la necesidad institucional, conservando la imagen corporativa y promoviendo a los docentes que accedan a la capacitación que ofrece el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rupo CITIC.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5"/>
          <p:cNvSpPr txBox="1"/>
          <p:nvPr/>
        </p:nvSpPr>
        <p:spPr>
          <a:xfrm rot="5400000">
            <a:off x="179280" y="3429000"/>
            <a:ext cx="50292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43f60"/>
                  </a:solidFill>
                  <a:miter/>
                </a:ln>
                <a:solidFill>
                  <a:srgbClr val="8db3e2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9360">
                <a:solidFill>
                  <a:srgbClr val="243f60"/>
                </a:solidFill>
                <a:miter/>
              </a:ln>
              <a:solidFill>
                <a:srgbClr val="8db3e2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684360" y="3540240"/>
            <a:ext cx="81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cance: Estableciendo los objetivos sobre lo que se quiere lograr en el proceso de capacitación, determinando las habilidades y destrezas a desarrollar en los docentes, a través de los estándares y marcas académic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7"/>
          <p:cNvSpPr txBox="1"/>
          <p:nvPr/>
        </p:nvSpPr>
        <p:spPr>
          <a:xfrm rot="5400000">
            <a:off x="143640" y="454572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43f60"/>
                  </a:solidFill>
                  <a:miter/>
                </a:ln>
                <a:solidFill>
                  <a:srgbClr val="8db3e2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</a:t>
            </a:r>
            <a:endParaRPr b="0" i="1" lang="en-US" sz="1800" spc="1" strike="noStrike">
              <a:ln w="9360">
                <a:solidFill>
                  <a:srgbClr val="243f60"/>
                </a:solidFill>
                <a:miter/>
              </a:ln>
              <a:solidFill>
                <a:srgbClr val="8db3e2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611280" y="4591080"/>
            <a:ext cx="828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pacitación: basándonos en el ciclo del diseño, se implementará una investigación permanente que permita fomentar el aprendizaje significativo en los docentes de la UCLA a través de la fase de planificación que abarca el contenido, duración y objetivos que pretendemos lograr con las tutorías virtuales del curso de capa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9"/>
          <p:cNvSpPr txBox="1"/>
          <p:nvPr/>
        </p:nvSpPr>
        <p:spPr>
          <a:xfrm>
            <a:off x="2428920" y="1714680"/>
            <a:ext cx="41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TODOLOGÍA PACI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714240" y="2143080"/>
            <a:ext cx="81439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á dirigido a una población de 1549 educadores planificado en 6 bloques con un total de 10 semanas de duración, que comprenderá el espacio para lecturas, búsqueda de recursos en línea, producción de guías de observación, planeamiento de lecciones y redes sociales de intercambio de Documentos en l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curso se realizará por medio de la Plataforma MOODLE de la UCLA y cada uno de los módulos contará con los siguientes espaci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9:54:22Z</dcterms:created>
  <dc:creator>personal</dc:creator>
  <dc:description/>
  <dc:language>en-US</dc:language>
  <cp:lastModifiedBy>Maribel.Viales</cp:lastModifiedBy>
  <dcterms:modified xsi:type="dcterms:W3CDTF">2010-01-27T00:33:30Z</dcterms:modified>
  <cp:revision>51</cp:revision>
  <dc:subject/>
  <dc:title>Diapositiva 1</dc:title>
</cp:coreProperties>
</file>